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0CD-3C49-43E4-90E6-CD3619A0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F0E-F979-4E6B-A3D6-0F2973AC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1E4-38A3-4136-AEA3-7FABC4A2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721-25F2-4810-B3C5-C9BBA6A4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3490-B020-4EC0-8664-C7444F3D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D070-7DF0-40A0-92EF-BCA0315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C238-D1D7-47A0-9533-F34330F0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7F6B-ACA2-49A0-B5A3-046198B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9CE2-AAA9-4B28-BCF1-E88777A9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415E-DE43-4A07-A548-F39004FD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C31F-D79A-4C65-A965-39B4B3EC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0CD-144C-4F9C-A6BC-00D8D059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3EE2-B409-44E3-B3E9-3D3E233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25B2-C0C2-4572-B46C-995AC4F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1AA-D88B-4574-87D0-006C386C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F871-1050-487B-98C0-32327DF3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E10E-1F96-4AA5-8BA9-08E10076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A9F4-EF67-4690-8AF4-1844A6CE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B289-E8BB-434B-989C-219E5BE2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E0E0-B7BC-4B78-917A-E0431FA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93F1-A84B-4182-866E-F6B414C6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0EF9-F786-46C1-A609-14B04746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E59-427B-48BC-A3F8-DE920828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0CDCF-1C00-4EF2-81C0-83D1BEB2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19A2-040B-47CB-B016-66B6256B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D05E-7FC5-4979-B892-8567AE1F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5F55-AF41-4689-AB3E-CAE9072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B4EE-6CBD-4C4F-BC3F-642D4CFA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5E6A-2D5B-4B97-B056-B2C4AF2F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05DD-93EF-4E4C-82E3-A34EC9BD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B2BF-2C50-4041-A68D-65FA857E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82B6-9269-4A7A-83CE-D930C820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CF92-5411-4133-BD72-0D2CCCA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3B3-C1DB-4E1C-BE5A-655E9B3F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1291-1327-4F9F-9B1E-5AC194C6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0561-E86C-49CB-9BD2-E45CACEC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224C-0553-4DC6-A784-15883E34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A9E3-3AA4-4C88-8FFD-0E3F74E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3A24-3D99-4501-A071-5DA3592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C192-EA03-45C6-A7BA-139BD09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8345-182E-45F5-A042-4DD8B490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A06A-3935-4CBD-A363-CDD94FB6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8C4D-8554-4E11-90A4-3B8147BF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3DB-9964-4D18-8C19-371643A2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F00-A157-4297-9FE0-0ACA8540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05C-3BC5-4DD2-9781-17D324A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8EE-9403-47DE-943F-E8DAECF2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23E-80F9-4302-9A0C-6BBC953D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245-62FC-4937-9F79-B48E10089AF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382F-F6B5-4A45-8267-F1B3A64C14B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FCFA-E76D-4DC3-B43E-AF1008DC241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D4AD-09D3-4C07-B928-A20049B42C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33240" y="109692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86040" y="235692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4617b"/>
                </a:solidFill>
                <a:latin typeface="Calibri"/>
              </a:rPr>
              <a:t>КОНЕЦ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3" descr=""/>
          <p:cNvPicPr/>
          <p:nvPr/>
        </p:nvPicPr>
        <p:blipFill>
          <a:blip r:embed="rId1"/>
          <a:stretch/>
        </p:blipFill>
        <p:spPr>
          <a:xfrm>
            <a:off x="285840" y="208080"/>
            <a:ext cx="8572320" cy="615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7" descr=""/>
          <p:cNvPicPr/>
          <p:nvPr/>
        </p:nvPicPr>
        <p:blipFill>
          <a:blip r:embed="rId1"/>
          <a:stretch/>
        </p:blipFill>
        <p:spPr>
          <a:xfrm>
            <a:off x="438120" y="841320"/>
            <a:ext cx="8261280" cy="5492880"/>
          </a:xfrm>
          <a:prstGeom prst="rect">
            <a:avLst/>
          </a:prstGeom>
          <a:ln w="0">
            <a:noFill/>
          </a:ln>
        </p:spPr>
      </p:pic>
      <p:cxnSp>
        <p:nvCxnSpPr>
          <p:cNvPr id="198" name="Прямая со стрелкой 12"/>
          <p:cNvCxnSpPr/>
          <p:nvPr/>
        </p:nvCxnSpPr>
        <p:spPr>
          <a:xfrm flipH="1">
            <a:off x="6571440" y="1500120"/>
            <a:ext cx="2520" cy="21528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99" name="Прямая со стрелкой 13"/>
          <p:cNvCxnSpPr/>
          <p:nvPr/>
        </p:nvCxnSpPr>
        <p:spPr>
          <a:xfrm flipH="1">
            <a:off x="2356560" y="1500120"/>
            <a:ext cx="1080" cy="21528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0" name="Прямая со стрелкой 14"/>
          <p:cNvCxnSpPr/>
          <p:nvPr/>
        </p:nvCxnSpPr>
        <p:spPr>
          <a:xfrm flipH="1">
            <a:off x="2356560" y="2428560"/>
            <a:ext cx="1080" cy="21492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1" name="Прямая со стрелкой 15"/>
          <p:cNvCxnSpPr/>
          <p:nvPr/>
        </p:nvCxnSpPr>
        <p:spPr>
          <a:xfrm flipH="1">
            <a:off x="6714360" y="2357280"/>
            <a:ext cx="2520" cy="286560"/>
          </a:xfrm>
          <a:prstGeom prst="straightConnector1">
            <a:avLst/>
          </a:prstGeom>
          <a:ln w="1908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1867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Доходы, не подлежащие налогообложению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7200"/>
            <a:ext cx="8329680" cy="4967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1) адресная социальная помощь, пособия и компенсации, за исключением связанных с оплатой труда, выплачиваемые за счет средств государственного бюджета, в размерах, установленных законодательством Республики Казахстан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2) алименты, полученные на детей и иждивенцев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3) возмещение ущерба, причиненного работнику увечьем либо иным повреждением здоровья, связанным с исполнением им трудовых обязанностей, в соответствии с законодательством Республики Казахстан (кроме возмещения в части утраченного заработка)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4) вознаграждения, выплачиваемые физическим лицам по их вкладам в банках и организациях, осуществляющих отдельные виды банковских операций, имеющих лицензию Национального Банка Республики Казахстан, и вознаграждение по долговым ценным бумагам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5) доходы от операций с государственными ценными бумагами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6) все виды выплат военнослужащим и сотрудникам органов внутренних дел, получаемых ими в связи с исполнением обязанностей воинской службы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7) выигрыши по лотерее в пределах 5 месячных расчетных показателей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8) выплаты в связи с выполнением общественных работ и профессиональным обучением, осуществляемые за счет средств государственного бюджета и грантов, в размере минимальной заработной платы, установленной законодательным актом Республики Казахстан на соответствующий год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9) выплаты за счет средств грантов (кроме выплат в виде оплаты труда)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10) выплаты в случаях, когда постоянная работа протекает в пути или имеет разъездной характер либо в связи со служебными поездками в пределах обслуживаемых участков, в размерах, установленных законодательством Республики Казахстан;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Декларацию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по индивидуальному подоходному налогу представляют следующие налогоплательщики-резиденты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еющие доходы, не облагаемые у источника выплат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зические лица, получающие доходы за пределами Республики Казахста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зические лица, имеющие деньги на счетах в иностранных банках, находящихся за пределами Республики Казахста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ца, на которых возложена обязанность по подаче декларации в соответствии с законодательным актом Республики Казахстан о борьбе с коррупци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путаты Парламента Республики Казахстан, судь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тавки нало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2" descr=""/>
          <p:cNvPicPr/>
          <p:nvPr/>
        </p:nvPicPr>
        <p:blipFill>
          <a:blip r:embed="rId1"/>
          <a:stretch/>
        </p:blipFill>
        <p:spPr>
          <a:xfrm>
            <a:off x="378000" y="1884240"/>
            <a:ext cx="8424720" cy="398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Налоговые вычеты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2" descr=""/>
          <p:cNvPicPr/>
          <p:nvPr/>
        </p:nvPicPr>
        <p:blipFill>
          <a:blip r:embed="rId1"/>
          <a:stretch/>
        </p:blipFill>
        <p:spPr>
          <a:xfrm>
            <a:off x="317520" y="1474920"/>
            <a:ext cx="8429760" cy="48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юм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17143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тельщик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ПН являю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изические лиц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имеющие объекты налогооблож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ъект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бложения являю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1) доходы, облагаемые у источника выпла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2) доходы, не облагаемые у источника выпла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вки налог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Доходы налогоплательщика подлежат обложению  по ставке 10 проц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писок используемой литератур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Кодекс Республики Казахстан «О налогах и других обязательных платежах в бюдже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«Налоги и налогообложение» - учебник под ред. Юткиной Т.Ф. 2001 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«Налоговое право РК» Худяков А.И., Алматы: 200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05:46Z</dcterms:created>
  <dc:creator>Aikashev</dc:creator>
  <dc:description/>
  <dc:language>en-US</dc:language>
  <cp:lastModifiedBy>Customer</cp:lastModifiedBy>
  <dcterms:modified xsi:type="dcterms:W3CDTF">2011-06-08T08:43:54Z</dcterms:modified>
  <cp:revision>25</cp:revision>
  <dc:subject/>
  <dc:title>Индивидуальный подоходный налог</dc:title>
</cp:coreProperties>
</file>